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816-63A4-48A1-B563-8A6271D5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F68-7CB9-47C2-BE46-DEB24EFA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619-E8C1-427E-828A-DAC0B558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EE2-F657-4BFD-97D4-6EC8300F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F7E8-B511-40A3-AA5F-023B0EC6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2AB8-6533-41F7-923B-6CCED952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9F94-C6A4-43FD-A75C-9E724110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FAC7-0FC2-42CB-9D0D-58BE1CCD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1DFA-185D-4790-A40D-EC02AD65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4B4A-0866-4B4D-B784-B947D4C3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5F1C-3FC4-4F63-9F83-FE7A4AA8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2AD-A005-4562-B0CE-911F45F1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0254-7FA3-44BA-9467-FF6253CB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5282-B2D8-4630-803D-2B70C0A8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EBD3-CFFD-43A0-9751-82F86E83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C73F-9B4B-46E3-BD75-00CE87D3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A6F8-03BE-4629-9768-251AC6BB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22E-6DBE-4FBD-986A-DAA932FB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C05-2215-4E18-9D0D-37DC94F6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950-1B6E-4C09-ADAF-C771B9A2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156-7C3E-4D1C-984A-B3D62AC5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730-5645-47CA-A8E5-8C38849D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B30-1672-4BCF-96F7-B532FB97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092-6D77-4B83-AAEF-0D26E6E6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DFC9-189E-4068-B6DE-8A07509F27F5}" type="slidenum">
              <a:rPr b="0" lang="ro-RO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8903-3B05-4860-BB67-BFD342B0BC65}" type="slidenum">
              <a:rPr b="0" lang="ro-RO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ro/imgres?imgurl=http://www.agendaclujeana.ro/wp-content/uploads/2009/06/poza1.jpg&amp;imgrefurl=http://www.agendaclujeana.ro/drepturile-copilului-dezbatute-la-scoala-de-vara-7735/&amp;usg=__0xhe-Kckfr7rUypigbzTryEYodg=&amp;h=230&amp;w=200&amp;sz=47&amp;hl=ro&amp;start=19&amp;um=1&amp;tbnid=VzSvLPhgkF2RJM:&amp;tbnh=108&amp;tbnw=94&amp;prev=/images%3Fq%3Ddrepturile%2Bcopilului%26hl%3Dro%26rlz%3D1R2ADRA_enRO345%26sa%3DX%26um%3D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Comic Sans MS"/>
              </a:rPr>
              <a:t>Prezentare unitatea de învaţare nr. 1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omic Sans MS"/>
              </a:rPr>
              <a:t>VIAŢA ÎN SOCIETA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580536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PROF. TUŞA FELI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ŞCOALA “ MIHAI VODĂ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COMUNA MIHAI VITEAZU,JUD. CLU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Animated avatar 100x100"/>
          <p:cNvPicPr/>
          <p:nvPr/>
        </p:nvPicPr>
        <p:blipFill>
          <a:blip r:embed="rId1"/>
          <a:stretch/>
        </p:blipFill>
        <p:spPr>
          <a:xfrm>
            <a:off x="5292720" y="476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Ne punem mereu întrebarea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CINE SUNTEM NOI?, iar răspunsul ar putea fi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SUMTEM ELEVII ŞCOLII MIHAI VODĂ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SUNTEM PREADOLESCENŢ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SUNTEM CETĂŢENII COMUNEI MIHAI VITEAZU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SUNTEM COPIII VOŞTR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SUNTEM CEEA CE VREM NOI SĂ FI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600960" y="4950000"/>
            <a:ext cx="2543040" cy="190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9640" y="189000"/>
            <a:ext cx="7201080" cy="1511280"/>
          </a:xfrm>
          <a:custGeom>
            <a:avLst/>
            <a:gdLst>
              <a:gd name="textAreaLeft" fmla="*/ 0 w 7201080"/>
              <a:gd name="textAreaRight" fmla="*/ 7201440 w 7201080"/>
              <a:gd name="textAreaTop" fmla="*/ 195840 h 1511280"/>
              <a:gd name="textAreaBottom" fmla="*/ 13154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Lectia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Persoana:unicitatea si demnitatea persoan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076720" y="0"/>
            <a:ext cx="34196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Prin esenta sa omul este o fiinta sociala. Existenta lui nu este posibila decat intr-un mediu social, rezultat al convietuirii cu ceilalti in procesul practicii sociale. Societatea si omul formeaza o unitate indisolubila, fiecare pastrandu-si o relativa autonomie, socialul este generat de relatiile care se incheaga intre membrii sai, odata aparut, insa, el nu desfiinteaza sau anihileaza personalitatea acestora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Clasa de elevi ne apare ca fiind un cadru propice care vine in intampinarea satisfacerii trebuintei de comunitate si de exprimare a sentimentului de apartenenta. Aici fiecare se afla in compania celorlalti, interactiunile dintre ei fiind adevarate supape prin intermediul carora, descarcandu-se tensiunile interne ale trebuintei, copilul traieste bucuria apartenentei sale la grup. Acest sentiment este, in fond, liantul care mentine si intensifica relatiile dintre membrii colectivului, conferindu-i acestuia o dimensiune sociala, cu rol “coercitiv” intrinsec asupra lo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5397480"/>
            <a:ext cx="419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Centrul situat in incinta Grupului Scolar de Arte si Meserii ''Spiru Haret'' din Bucuresti vine in intampinarea nevoilor varstnicilor, tinerilor, copiilor si familiilor acestora"/>
          <p:cNvPicPr/>
          <p:nvPr/>
        </p:nvPicPr>
        <p:blipFill>
          <a:blip r:embed="rId1"/>
          <a:stretch/>
        </p:blipFill>
        <p:spPr>
          <a:xfrm>
            <a:off x="395280" y="2133720"/>
            <a:ext cx="2879640" cy="227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11280" y="115920"/>
            <a:ext cx="4248000" cy="1584360"/>
          </a:xfrm>
          <a:prstGeom prst="irregularSeal2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Lectia 2</a:t>
            </a:r>
            <a:br>
              <a:rPr sz="2400"/>
            </a:b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Omul-fiinţă soc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7696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Clasa de elevi este un grup social, care se deosebeste de alte grupuri sociale. Notele definitorii ale clasei de elevi sunt structura, coeziunea, dinamica si scopurile specific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Structura clasei de elevi este generata de interrelatiile ce se stabilesc intre membrii sa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3961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773360"/>
            <a:ext cx="7410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Un grup social reprezinta un ansamblu de indivizi intre care exista relatii bine definite si in care fiecare individ are constiintaapartenenţei la grup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85228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Membrii unui grup au o anumita structura, functioneaza dupa unele reguli prestabilite, au interese comune si urmaresc realizarea unor scopuri specifice, bine delimi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95640" y="3735360"/>
            <a:ext cx="4164120" cy="3122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26920" y="404640"/>
            <a:ext cx="6409080" cy="1152720"/>
          </a:xfrm>
          <a:custGeom>
            <a:avLst/>
            <a:gdLst>
              <a:gd name="textAreaLeft" fmla="*/ 1602360 w 6409080"/>
              <a:gd name="textAreaRight" fmla="*/ 4807080 w 6409080"/>
              <a:gd name="textAreaTop" fmla="*/ 14400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Lecţi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Grupurile-caracterisitici,tipu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189000"/>
            <a:ext cx="5759280" cy="1412640"/>
          </a:xfrm>
          <a:prstGeom prst="cloudCallout">
            <a:avLst>
              <a:gd name="adj1" fmla="val -15296"/>
              <a:gd name="adj2" fmla="val 157865"/>
            </a:avLst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Lectia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Comunitatea locala,national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internaţion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Drepturile omului reprezinta principalele conditii care permit feecarei persoane sa-si dezvolte si sa-si foloseasca cat mai eficient calitatile: fizice, intelectuale, morale, socio-afective si spirituale. Ele decurg din inspiratia-tot mai mare-a omenirii la o viata in care demnitatea si valoarea fiecaruia este respectata si protejata. </a:t>
            </a:r>
            <a:br>
              <a:rPr sz="1600"/>
            </a:b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Conventia Europeana a Drepturilor Omului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. dreptul de a avea o viata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. dreptul libertatii de sclavie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. dreptul libertatii de a vorbii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. dreptul de a nu fi torturat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. dreptul la intimitate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a 20 noiembrie 1989 Adunarea General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a Na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unilor Unite a adoptat Conven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a Drepturilor Copilulu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nven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a privind Drepturile Copilului 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corporeaz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, mai mult decat oricare alt document, 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treg spectrul drepturilor omului – civile, politice, economice, sociale 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ş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 culturale 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ş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 prevede o dezvoltare completa a poten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alului copilului 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tr-o atmosfer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de libertate, demnitate </a:t>
            </a:r>
            <a:r>
              <a:rPr b="0" lang="ro-RO" sz="1600" spc="-1" strike="noStrike">
                <a:solidFill>
                  <a:srgbClr val="ffffff"/>
                </a:solidFill>
                <a:latin typeface="Comic Sans MS"/>
              </a:rPr>
              <a:t>ş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 justiti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419640" y="189000"/>
            <a:ext cx="3240000" cy="1197000"/>
          </a:xfrm>
          <a:prstGeom prst="wedgeEllipseCallout">
            <a:avLst>
              <a:gd name="adj1" fmla="val 128930"/>
              <a:gd name="adj2" fmla="val 96416"/>
            </a:avLst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Lecţia 5</a:t>
            </a:r>
            <a:br>
              <a:rPr sz="1800"/>
            </a:br>
            <a:r>
              <a:rPr b="0" lang="ro-RO" sz="1800" spc="-1" strike="noStrike">
                <a:solidFill>
                  <a:srgbClr val="ffffff"/>
                </a:solidFill>
                <a:latin typeface="Comic Sans MS"/>
              </a:rPr>
              <a:t>Drepturile om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mic Sans MS"/>
              </a:rPr>
              <a:t>Împreună, pas cu pas, pentru binele copiilor</a:t>
            </a:r>
            <a:r>
              <a:rPr b="0" lang="ro-RO" sz="44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c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sc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p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d cu ceilalti, copii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v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nerozitatea.  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c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sc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onestitate, copii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v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respectul pentru adev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.  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c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sc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corectitudine, copii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v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a fie drepti.  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c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sc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bun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oin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consider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, copii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v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respectul.  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c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sc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siguran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copii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v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s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aiba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credere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e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ceilal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.  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c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r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sc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 prietenie, copiii 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va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ţ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e pl</a:t>
            </a:r>
            <a:r>
              <a:rPr b="0" lang="ro-RO" sz="2000" spc="-1" strike="noStrike">
                <a:solidFill>
                  <a:srgbClr val="ffffff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ut sa traiesti pe lume.  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" descr="Image"/>
          <p:cNvPicPr/>
          <p:nvPr/>
        </p:nvPicPr>
        <p:blipFill>
          <a:blip r:embed="rId1"/>
          <a:stretch/>
        </p:blipFill>
        <p:spPr>
          <a:xfrm>
            <a:off x="3276720" y="4653000"/>
            <a:ext cx="2735280" cy="2205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72360" y="0"/>
            <a:ext cx="18716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249228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o-RO" sz="4000" spc="-1" strike="noStrike">
                <a:solidFill>
                  <a:srgbClr val="ffffff"/>
                </a:solidFill>
                <a:latin typeface="Comic Sans MS"/>
              </a:rPr>
              <a:t>Vă mulţumesc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1:48:10Z</dcterms:created>
  <dc:creator>user</dc:creator>
  <dc:description/>
  <dc:language>en-US</dc:language>
  <cp:lastModifiedBy>user</cp:lastModifiedBy>
  <dcterms:modified xsi:type="dcterms:W3CDTF">2010-01-23T18:05:52Z</dcterms:modified>
  <cp:revision>5</cp:revision>
  <dc:subject/>
  <dc:title>Prezentare unitatea de invatare nr. 1</dc:title>
</cp:coreProperties>
</file>